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1.wmf" ContentType="image/x-wmf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14.png" ContentType="image/png"/>
  <Override PartName="/ppt/media/image6.wmf" ContentType="image/x-wmf"/>
  <Override PartName="/ppt/media/image11.wmf" ContentType="image/x-wmf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5FA3-74B0-4FA8-9731-A23243B58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75F4-2502-4A84-BA7A-4F85837E2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0274-AB9F-42DE-8C61-2A0CA3446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2409-A564-462F-BE32-1C635A54B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B8FDF-2297-4875-BDEB-4AD2B7054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7BC1A-6A6A-452A-8065-6683BD558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4F1BF-633A-475C-9C1C-CBDC62912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10F29-97C7-43BE-9569-C3956EFC0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8E084-C48A-462D-86A3-3E0DC922E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A14C4-2728-4737-8758-60298D369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02D99-BB38-429A-AB2B-0459BBEA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4C64-63E9-4DC6-BFC6-099929DB0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4D94B-D44A-4216-A222-FFE4E237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D9183-B97B-4A63-991C-21939779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C3851-38A3-47EF-AA6E-45FCE17BE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47EA1-CC6D-4DBA-AEBD-76253C8A8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F83DF-EFED-47EF-8169-62CA53109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52E75-4CBD-465F-B218-DD08DE1A2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FD567-6ABC-4214-B1A5-40E4CFC4E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18726-1A80-430E-9058-B22C4FB6A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4BCDF-ED56-4777-8972-03C6688B8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C1F16-8ED4-4C93-B8AF-6A6110047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D552-7CD3-46E3-9130-C3D37015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DDB85-7C80-4089-AE24-66286C194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42404-772C-4F47-B58B-FBB5B509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2E637-ED90-4BA0-A0FB-51C4ACC7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33C01-95AE-47E8-9055-215D519D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E2C1C-35BC-43F7-895D-E3F69A76F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AF3B4-D486-41C6-B861-D89FDED0F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367D3-B39C-47B4-8B64-B19C4E986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E94FA-C8D2-473E-84B9-934F01F6F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A65F2-A723-48C4-BDDA-1888D6444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A9F38-034D-4D6B-A80C-B1E65C6F2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5B1D-D237-42CD-9B4C-05E7059D6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9337A-55AA-4D38-A731-C1B206261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51AA8-2C5F-4F27-8B85-50CCFE75B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6FAFA-A3BD-4118-8CDF-8E5F0CA72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6A6FB-D0B2-4570-A911-E560D352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E2C66-FF4D-43DD-BEB1-56757A44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E2434-CCEC-4CF8-BE68-074287D9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841FE-EF0E-455C-9C52-28F8AFFDB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28995-669B-4487-B83C-26C2128BF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18100-99A5-4E6C-A069-0C750668E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8877-3EE4-42E8-A933-4D3AF9A1A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2E8E-6373-43D0-89A3-FEEEF2764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E150-DC3E-441D-9BBF-1348C5EE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E0DB-6468-463E-B2FC-A94636E3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83EA-C4BA-4971-B0D5-BAC95AC8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B3743-38F5-4E0F-9107-75CBA90233C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C5599-E063-4D8D-B034-384E90DA24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54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3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94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96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97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9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FFF05-1ED9-43C1-835C-F65769E6AD98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4D639-1799-4799-B363-B2D2951788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16.xml"/><Relationship Id="rId4" Type="http://schemas.openxmlformats.org/officeDocument/2006/relationships/slide" Target="slide17.xml"/><Relationship Id="rId5" Type="http://schemas.openxmlformats.org/officeDocument/2006/relationships/slide" Target="slide18.xml"/><Relationship Id="rId6" Type="http://schemas.openxmlformats.org/officeDocument/2006/relationships/slide" Target="slide19.xml"/><Relationship Id="rId7" Type="http://schemas.openxmlformats.org/officeDocument/2006/relationships/slide" Target="slide20.xml"/><Relationship Id="rId8" Type="http://schemas.openxmlformats.org/officeDocument/2006/relationships/slide" Target="slide21.xml"/><Relationship Id="rId9" Type="http://schemas.openxmlformats.org/officeDocument/2006/relationships/slide" Target="slide22.xml"/><Relationship Id="rId10" Type="http://schemas.openxmlformats.org/officeDocument/2006/relationships/slide" Target="slide23.xml"/><Relationship Id="rId11" Type="http://schemas.openxmlformats.org/officeDocument/2006/relationships/slide" Target="slide24.xml"/><Relationship Id="rId12" Type="http://schemas.openxmlformats.org/officeDocument/2006/relationships/slide" Target="slide25.xml"/><Relationship Id="rId13" Type="http://schemas.openxmlformats.org/officeDocument/2006/relationships/slide" Target="slide26.xml"/><Relationship Id="rId14" Type="http://schemas.openxmlformats.org/officeDocument/2006/relationships/slide" Target="slide27.xml"/><Relationship Id="rId15" Type="http://schemas.openxmlformats.org/officeDocument/2006/relationships/slide" Target="slide28.xml"/><Relationship Id="rId16" Type="http://schemas.openxmlformats.org/officeDocument/2006/relationships/slide" Target="slide29.xml"/><Relationship Id="rId17" Type="http://schemas.openxmlformats.org/officeDocument/2006/relationships/slide" Target="slide30.xml"/><Relationship Id="rId18" Type="http://schemas.openxmlformats.org/officeDocument/2006/relationships/slide" Target="slide31.xml"/><Relationship Id="rId19" Type="http://schemas.openxmlformats.org/officeDocument/2006/relationships/slide" Target="slide32.xml"/><Relationship Id="rId20" Type="http://schemas.openxmlformats.org/officeDocument/2006/relationships/slide" Target="slide33.xml"/><Relationship Id="rId21" Type="http://schemas.openxmlformats.org/officeDocument/2006/relationships/slide" Target="slide34.xml"/><Relationship Id="rId22" Type="http://schemas.openxmlformats.org/officeDocument/2006/relationships/slide" Target="slide35.xml"/><Relationship Id="rId23" Type="http://schemas.openxmlformats.org/officeDocument/2006/relationships/slide" Target="slide36.xml"/><Relationship Id="rId24" Type="http://schemas.openxmlformats.org/officeDocument/2006/relationships/slide" Target="slide37.xml"/><Relationship Id="rId25" Type="http://schemas.openxmlformats.org/officeDocument/2006/relationships/slide" Target="slide38.xml"/><Relationship Id="rId26" Type="http://schemas.openxmlformats.org/officeDocument/2006/relationships/slide" Target="slide39.xml"/><Relationship Id="rId27" Type="http://schemas.openxmlformats.org/officeDocument/2006/relationships/slide" Target="slide40.xml"/><Relationship Id="rId28" Type="http://schemas.openxmlformats.org/officeDocument/2006/relationships/slide" Target="slide41.xml"/><Relationship Id="rId29" Type="http://schemas.openxmlformats.org/officeDocument/2006/relationships/slide" Target="slide42.xml"/><Relationship Id="rId30" Type="http://schemas.openxmlformats.org/officeDocument/2006/relationships/slide" Target="slide43.xml"/><Relationship Id="rId31" Type="http://schemas.openxmlformats.org/officeDocument/2006/relationships/slide" Target="slide44.xml"/><Relationship Id="rId32" Type="http://schemas.openxmlformats.org/officeDocument/2006/relationships/slide" Target="slide45.xml"/><Relationship Id="rId33" Type="http://schemas.openxmlformats.org/officeDocument/2006/relationships/slide" Target="slide46.xml"/><Relationship Id="rId34" Type="http://schemas.openxmlformats.org/officeDocument/2006/relationships/slide" Target="slide47.xml"/><Relationship Id="rId35" Type="http://schemas.openxmlformats.org/officeDocument/2006/relationships/slide" Target="slide48.xml"/><Relationship Id="rId36" Type="http://schemas.openxmlformats.org/officeDocument/2006/relationships/slide" Target="slide49.xml"/><Relationship Id="rId3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12" descr="j0229389"/>
          <p:cNvPicPr/>
          <p:nvPr/>
        </p:nvPicPr>
        <p:blipFill>
          <a:blip r:embed="rId1"/>
          <a:stretch/>
        </p:blipFill>
        <p:spPr>
          <a:xfrm>
            <a:off x="0" y="0"/>
            <a:ext cx="9144000" cy="655308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Муниципальное общеобразовательное учреждение средняя                                                                                 общеобразовательная школа с. Афанасьево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Измалковского района Липецкой области 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228600" y="838080"/>
            <a:ext cx="86104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e4a8"/>
                </a:solidFill>
                <a:latin typeface="Georgia"/>
              </a:rPr>
              <a:t>В</a:t>
            </a:r>
            <a:r>
              <a:rPr b="1" i="1" lang="ru-RU" sz="4400" spc="-1" strike="noStrike">
                <a:solidFill>
                  <a:srgbClr val="ff0000"/>
                </a:solidFill>
                <a:latin typeface="Georgia"/>
              </a:rPr>
              <a:t>о</a:t>
            </a:r>
            <a:r>
              <a:rPr b="1" i="1" lang="ru-RU" sz="4400" spc="-1" strike="noStrike">
                <a:solidFill>
                  <a:srgbClr val="3333cc"/>
                </a:solidFill>
                <a:latin typeface="Georgia"/>
              </a:rPr>
              <a:t>л</a:t>
            </a:r>
            <a:r>
              <a:rPr b="1" i="1" lang="ru-RU" sz="4400" spc="-1" strike="noStrike">
                <a:solidFill>
                  <a:srgbClr val="ffcf01"/>
                </a:solidFill>
                <a:latin typeface="Georgia"/>
              </a:rPr>
              <a:t>ш</a:t>
            </a:r>
            <a:r>
              <a:rPr b="1" i="1" lang="ru-RU" sz="4400" spc="-1" strike="noStrike">
                <a:solidFill>
                  <a:srgbClr val="33ccff"/>
                </a:solidFill>
                <a:latin typeface="Georgia"/>
              </a:rPr>
              <a:t>е</a:t>
            </a:r>
            <a:r>
              <a:rPr b="1" i="1" lang="ru-RU" sz="4400" spc="-1" strike="noStrike">
                <a:solidFill>
                  <a:srgbClr val="000000"/>
                </a:solidFill>
                <a:latin typeface="Georgia"/>
              </a:rPr>
              <a:t>б</a:t>
            </a:r>
            <a:r>
              <a:rPr b="1" i="1" lang="ru-RU" sz="4400" spc="-1" strike="noStrike">
                <a:solidFill>
                  <a:srgbClr val="ff9900"/>
                </a:solidFill>
                <a:latin typeface="Georgia"/>
              </a:rPr>
              <a:t>н</a:t>
            </a:r>
            <a:r>
              <a:rPr b="1" i="1" lang="ru-RU" sz="4400" spc="-1" strike="noStrike">
                <a:solidFill>
                  <a:srgbClr val="00e4a8"/>
                </a:solidFill>
                <a:latin typeface="Georgia"/>
              </a:rPr>
              <a:t>ы</a:t>
            </a:r>
            <a:r>
              <a:rPr b="1" i="1" lang="ru-RU" sz="4400" spc="-1" strike="noStrike">
                <a:solidFill>
                  <a:srgbClr val="ff0000"/>
                </a:solidFill>
                <a:latin typeface="Georgia"/>
              </a:rPr>
              <a:t>й</a:t>
            </a:r>
            <a:r>
              <a:rPr b="1" i="1" lang="ru-RU" sz="4400" spc="-1" strike="noStrike">
                <a:solidFill>
                  <a:srgbClr val="00e4a8"/>
                </a:solidFill>
                <a:latin typeface="Georgia"/>
              </a:rPr>
              <a:t> </a:t>
            </a:r>
            <a:r>
              <a:rPr b="1" i="1" lang="ru-RU" sz="4400" spc="-1" strike="noStrike">
                <a:solidFill>
                  <a:srgbClr val="3333cc"/>
                </a:solidFill>
                <a:latin typeface="Georgia"/>
              </a:rPr>
              <a:t>к</a:t>
            </a:r>
            <a:r>
              <a:rPr b="1" i="1" lang="ru-RU" sz="4400" spc="-1" strike="noStrike">
                <a:solidFill>
                  <a:srgbClr val="eef32d"/>
                </a:solidFill>
                <a:latin typeface="Georgia"/>
              </a:rPr>
              <a:t>в</a:t>
            </a:r>
            <a:r>
              <a:rPr b="1" i="1" lang="ru-RU" sz="4400" spc="-1" strike="noStrike">
                <a:solidFill>
                  <a:srgbClr val="33ccff"/>
                </a:solidFill>
                <a:latin typeface="Georgia"/>
              </a:rPr>
              <a:t>а</a:t>
            </a:r>
            <a:r>
              <a:rPr b="1" i="1" lang="ru-RU" sz="4400" spc="-1" strike="noStrike">
                <a:solidFill>
                  <a:srgbClr val="000000"/>
                </a:solidFill>
                <a:latin typeface="Georgia"/>
              </a:rPr>
              <a:t>д</a:t>
            </a:r>
            <a:r>
              <a:rPr b="1" i="1" lang="ru-RU" sz="4400" spc="-1" strike="noStrike">
                <a:solidFill>
                  <a:srgbClr val="ff9900"/>
                </a:solidFill>
                <a:latin typeface="Georgia"/>
              </a:rPr>
              <a:t>р</a:t>
            </a:r>
            <a:r>
              <a:rPr b="1" i="1" lang="ru-RU" sz="4400" spc="-1" strike="noStrike">
                <a:solidFill>
                  <a:srgbClr val="00e4a8"/>
                </a:solidFill>
                <a:latin typeface="Georgia"/>
              </a:rPr>
              <a:t>а</a:t>
            </a:r>
            <a:r>
              <a:rPr b="1" i="1" lang="ru-RU" sz="4400" spc="-1" strike="noStrike">
                <a:solidFill>
                  <a:srgbClr val="ff3300"/>
                </a:solidFill>
                <a:latin typeface="Georgia"/>
              </a:rPr>
              <a:t>т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8e69"/>
                </a:solidFill>
                <a:latin typeface="Georgia"/>
              </a:rPr>
              <a:t>(Особенности проведения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8e69"/>
                </a:solidFill>
                <a:latin typeface="Georgia"/>
              </a:rPr>
              <a:t>Разработка урока по теме: «Человек на Земле»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Учитель биологии и хим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дколзина Ольга Николаевн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00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680" y="-30492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Литератур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819160" y="1828440"/>
            <a:ext cx="5181480" cy="43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Елькина А. М., Старцев П. Е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Биологические карты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-М.: «Дрофа», 2001г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2.  Касаткина Н. А. (составитель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Природоведение 5класс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Материалы к урокам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- Волгоград. «Учитель», 2004г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3. Парфилова Л. Д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Тесты по природоведению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-М.: «Экзамен», 2006г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4. Плешаков А. А., Сонин Н. И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Природоведение -5 класс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-М.: «Дрофа», 2002г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5. Шиндина В. М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Шоу-игра «Волшебный квадрат»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для учащихся 3 класс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-Педсовет, №12, 2002г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240" y="214200"/>
            <a:ext cx="8715240" cy="595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Урок- обобщение по теме:</a:t>
            </a:r>
            <a:br>
              <a:rPr sz="4400"/>
            </a:b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3300"/>
                </a:solidFill>
                <a:latin typeface="Tahoma"/>
              </a:rPr>
              <a:t>«ЧЕЛОВЕК НА ЗЕМЛЕ»</a:t>
            </a:r>
            <a:br>
              <a:rPr sz="4400"/>
            </a:b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природоведение – 5 класс</a:t>
            </a:r>
            <a:br>
              <a:rPr sz="4000"/>
            </a:b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игра «ВОЛШЕБНЫЙ КВАДРАТ»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WordArt 5"/>
          <p:cNvSpPr txBox="1"/>
          <p:nvPr/>
        </p:nvSpPr>
        <p:spPr>
          <a:xfrm>
            <a:off x="1676520" y="228600"/>
            <a:ext cx="65530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Давайте поиграем!</a:t>
            </a:r>
            <a:endParaRPr b="1" i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ЧЕЛОВЕК НА ЗЕМЛ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8213760" y="3079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8e6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e69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8e69"/>
                </a:solidFill>
                <a:latin typeface="Tahoma"/>
              </a:rPr>
              <a:t>Как появился человек на Земл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33ccff"/>
                </a:solidFill>
                <a:latin typeface="Tahoma"/>
              </a:rPr>
              <a:t>Экология – наука о природ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3333cc"/>
                </a:solidFill>
                <a:latin typeface="Tahoma"/>
              </a:rPr>
              <a:t>Географические открыт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eef32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f32d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eef32d"/>
                </a:solidFill>
                <a:latin typeface="Tahoma"/>
              </a:rPr>
              <a:t>Как человек изменил Земл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Красная книг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eaeaea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 станет ли Земля пустыне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Жизнь под угрозо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1752480" y="914400"/>
          <a:ext cx="5943600" cy="5334120"/>
        </p:xfrm>
        <a:graphic>
          <a:graphicData uri="http://schemas.openxmlformats.org/drawingml/2006/table">
            <a:tbl>
              <a:tblPr/>
              <a:tblGrid>
                <a:gridCol w="990720"/>
                <a:gridCol w="990720"/>
                <a:gridCol w="990360"/>
                <a:gridCol w="990720"/>
                <a:gridCol w="990720"/>
                <a:gridCol w="990360"/>
              </a:tblGrid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1" action="ppaction://hlinksldjump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2" action="ppaction://hlinksldjump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3" action="ppaction://hlinksldjump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4" action="ppaction://hlinksldjump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e6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5" action="ppaction://hlinksldjump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6" action="ppaction://hlinksldjump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8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7" action="ppaction://hlinksldjump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32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8" action="ppaction://hlinksldjump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e6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9" action="ppaction://hlinksldjump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10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11" action="ppaction://hlinksldjump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32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12" action="ppaction://hlinksldjump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13" action="ppaction://hlinksldjump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14" action="ppaction://hlinksldjump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15" action="ppaction://hlinksldjump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16" action="ppaction://hlinksldjump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17" action="ppaction://hlinksldjump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18" action="ppaction://hlinksldjump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</a:tr>
              <a:tr h="88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19" action="ppaction://hlinksldjump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20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32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21" action="ppaction://hlinksldjump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22" action="ppaction://hlinksldjump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23" action="ppaction://hlinksldjump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24" action="ppaction://hlinksldjump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e69"/>
                    </a:solidFill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25" action="ppaction://hlinksldjump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26" action="ppaction://hlinksldjump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27" action="ppaction://hlinksldjump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e6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28" action="ppaction://hlinksldjump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29" action="ppaction://hlinksldjump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32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30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88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31" action="ppaction://hlinksldjump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f32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32" action="ppaction://hlinksldjump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33" action="ppaction://hlinksldjump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34" action="ppaction://hlinksldjump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35" action="ppaction://hlinksldjump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8e6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36" action="ppaction://hlinksldjump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</a:tr>
            </a:tbl>
          </a:graphicData>
        </a:graphic>
      </p:graphicFrame>
      <p:sp>
        <p:nvSpPr>
          <p:cNvPr id="223" name="AutoShape 60">
            <a:hlinkClick r:id="" action="ppaction://hlinkshowjump?jump=lastslide"/>
          </p:cNvPr>
          <p:cNvSpPr/>
          <p:nvPr/>
        </p:nvSpPr>
        <p:spPr>
          <a:xfrm>
            <a:off x="8077320" y="594360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15375" y="10800"/>
                </a:moveTo>
                <a:lnTo>
                  <a:pt x="4869" y="17806"/>
                </a:lnTo>
                <a:lnTo>
                  <a:pt x="4869" y="3794"/>
                </a:lnTo>
                <a:close/>
              </a:path>
              <a:path fill="darken" w="23752" h="21600">
                <a:moveTo>
                  <a:pt x="17220" y="3794"/>
                </a:moveTo>
                <a:lnTo>
                  <a:pt x="17220" y="17806"/>
                </a:lnTo>
                <a:lnTo>
                  <a:pt x="18882" y="17806"/>
                </a:lnTo>
                <a:lnTo>
                  <a:pt x="18882" y="3794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 1 -  блиц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26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Установите соответствие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счезнувший вид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едкий вид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пасённый от вымирания вид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) Серый ки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) Дрон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) Латимер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AutoShape 4">
            <a:hlinkClick r:id="" action="ppaction://hlinkshowjump?jump=previousslide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8" descr="j0285360"/>
          <p:cNvPicPr/>
          <p:nvPr/>
        </p:nvPicPr>
        <p:blipFill>
          <a:blip r:embed="rId1"/>
          <a:stretch/>
        </p:blipFill>
        <p:spPr>
          <a:xfrm>
            <a:off x="2220840" y="228600"/>
            <a:ext cx="4946760" cy="609588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28240" y="3048120"/>
            <a:ext cx="11658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3300"/>
                </a:solidFill>
                <a:latin typeface="Tahoma"/>
              </a:rPr>
              <a:t>Что изучает наука экология</a:t>
            </a: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AutoShape 6">
            <a:hlinkClick r:id="rId2" action="ppaction://hlinksldjump"/>
          </p:cNvPr>
          <p:cNvSpPr/>
          <p:nvPr/>
        </p:nvSpPr>
        <p:spPr>
          <a:xfrm>
            <a:off x="30492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5" descr="Красная пустыня"/>
          <p:cNvPicPr/>
          <p:nvPr/>
        </p:nvPicPr>
        <p:blipFill>
          <a:blip r:embed="rId1"/>
          <a:stretch/>
        </p:blipFill>
        <p:spPr>
          <a:xfrm>
            <a:off x="1219320" y="6094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 3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82600" y="1981080"/>
            <a:ext cx="777240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Что такое опустынивание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?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В каком районе нашей страны оно происходит особенно быстро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AutoShape 4">
            <a:hlinkClick r:id="rId2" action="ppaction://hlinksldjump"/>
          </p:cNvPr>
          <p:cNvSpPr/>
          <p:nvPr/>
        </p:nvSpPr>
        <p:spPr>
          <a:xfrm>
            <a:off x="152280" y="56386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e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 4 -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560" y="201780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Первые люди, по мнению ученых, появились около 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10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200 лет назад;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10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2000 лет назад;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10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2 млн. лет назад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AutoShape 4">
            <a:hlinkClick r:id="rId1" action="ppaction://hlinksldjump"/>
          </p:cNvPr>
          <p:cNvSpPr/>
          <p:nvPr/>
        </p:nvSpPr>
        <p:spPr>
          <a:xfrm>
            <a:off x="22860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 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82600" y="2819160"/>
            <a:ext cx="77724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Какие действия людей открывают дорогу пустыне?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AutoShape 4">
            <a:hlinkClick r:id="rId1" action="ppaction://hlinksldjump"/>
          </p:cNvPr>
          <p:cNvSpPr/>
          <p:nvPr/>
        </p:nvSpPr>
        <p:spPr>
          <a:xfrm>
            <a:off x="304920" y="5791320"/>
            <a:ext cx="761760" cy="76176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 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82600" y="2057400"/>
            <a:ext cx="777240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Международный союз охраны природы и природных ресурсов учредил Красную книгу в 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9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1900 году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9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2006 году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9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1966 году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AutoShape 4">
            <a:hlinkClick r:id="rId1" action="ppaction://hlinksldjump"/>
          </p:cNvPr>
          <p:cNvSpPr/>
          <p:nvPr/>
        </p:nvSpPr>
        <p:spPr>
          <a:xfrm>
            <a:off x="3808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e4a8"/>
                </a:solidFill>
                <a:latin typeface="Georgia"/>
              </a:rPr>
              <a:t>В</a:t>
            </a:r>
            <a:r>
              <a:rPr b="1" i="1" lang="ru-RU" sz="4400" spc="-1" strike="noStrike">
                <a:solidFill>
                  <a:srgbClr val="ff0000"/>
                </a:solidFill>
                <a:latin typeface="Georgia"/>
              </a:rPr>
              <a:t>о</a:t>
            </a:r>
            <a:r>
              <a:rPr b="1" i="1" lang="ru-RU" sz="4400" spc="-1" strike="noStrike">
                <a:solidFill>
                  <a:srgbClr val="3333cc"/>
                </a:solidFill>
                <a:latin typeface="Georgia"/>
              </a:rPr>
              <a:t>л</a:t>
            </a:r>
            <a:r>
              <a:rPr b="1" i="1" lang="ru-RU" sz="4400" spc="-1" strike="noStrike">
                <a:solidFill>
                  <a:srgbClr val="ffcf01"/>
                </a:solidFill>
                <a:latin typeface="Georgia"/>
              </a:rPr>
              <a:t>ш</a:t>
            </a:r>
            <a:r>
              <a:rPr b="1" i="1" lang="ru-RU" sz="4400" spc="-1" strike="noStrike">
                <a:solidFill>
                  <a:srgbClr val="33ccff"/>
                </a:solidFill>
                <a:latin typeface="Georgia"/>
              </a:rPr>
              <a:t>е</a:t>
            </a:r>
            <a:r>
              <a:rPr b="1" i="1" lang="ru-RU" sz="4400" spc="-1" strike="noStrike">
                <a:solidFill>
                  <a:srgbClr val="333399"/>
                </a:solidFill>
                <a:latin typeface="Georgia"/>
              </a:rPr>
              <a:t>б</a:t>
            </a:r>
            <a:r>
              <a:rPr b="1" i="1" lang="ru-RU" sz="4400" spc="-1" strike="noStrike">
                <a:solidFill>
                  <a:srgbClr val="ff9900"/>
                </a:solidFill>
                <a:latin typeface="Georgia"/>
              </a:rPr>
              <a:t>н</a:t>
            </a:r>
            <a:r>
              <a:rPr b="1" i="1" lang="ru-RU" sz="4400" spc="-1" strike="noStrike">
                <a:solidFill>
                  <a:srgbClr val="00e4a8"/>
                </a:solidFill>
                <a:latin typeface="Georgia"/>
              </a:rPr>
              <a:t>ы</a:t>
            </a:r>
            <a:r>
              <a:rPr b="1" i="1" lang="ru-RU" sz="4400" spc="-1" strike="noStrike">
                <a:solidFill>
                  <a:srgbClr val="ff0000"/>
                </a:solidFill>
                <a:latin typeface="Georgia"/>
              </a:rPr>
              <a:t>й</a:t>
            </a:r>
            <a:r>
              <a:rPr b="1" i="1" lang="ru-RU" sz="4400" spc="-1" strike="noStrike">
                <a:solidFill>
                  <a:srgbClr val="00e4a8"/>
                </a:solidFill>
                <a:latin typeface="Georgia"/>
              </a:rPr>
              <a:t> </a:t>
            </a:r>
            <a:r>
              <a:rPr b="1" i="1" lang="ru-RU" sz="4400" spc="-1" strike="noStrike">
                <a:solidFill>
                  <a:srgbClr val="3333cc"/>
                </a:solidFill>
                <a:latin typeface="Georgia"/>
              </a:rPr>
              <a:t>к</a:t>
            </a:r>
            <a:r>
              <a:rPr b="1" i="1" lang="ru-RU" sz="4400" spc="-1" strike="noStrike">
                <a:solidFill>
                  <a:srgbClr val="eef32d"/>
                </a:solidFill>
                <a:latin typeface="Georgia"/>
              </a:rPr>
              <a:t>в</a:t>
            </a:r>
            <a:r>
              <a:rPr b="1" i="1" lang="ru-RU" sz="4400" spc="-1" strike="noStrike">
                <a:solidFill>
                  <a:srgbClr val="33ccff"/>
                </a:solidFill>
                <a:latin typeface="Georgia"/>
              </a:rPr>
              <a:t>а</a:t>
            </a:r>
            <a:r>
              <a:rPr b="1" i="1" lang="ru-RU" sz="4400" spc="-1" strike="noStrike">
                <a:solidFill>
                  <a:srgbClr val="333399"/>
                </a:solidFill>
                <a:latin typeface="Georgia"/>
              </a:rPr>
              <a:t>д</a:t>
            </a:r>
            <a:r>
              <a:rPr b="1" i="1" lang="ru-RU" sz="4400" spc="-1" strike="noStrike">
                <a:solidFill>
                  <a:srgbClr val="ff9900"/>
                </a:solidFill>
                <a:latin typeface="Georgia"/>
              </a:rPr>
              <a:t>р</a:t>
            </a:r>
            <a:r>
              <a:rPr b="1" i="1" lang="ru-RU" sz="4400" spc="-1" strike="noStrike">
                <a:solidFill>
                  <a:srgbClr val="00e4a8"/>
                </a:solidFill>
                <a:latin typeface="Georgia"/>
              </a:rPr>
              <a:t>а</a:t>
            </a:r>
            <a:r>
              <a:rPr b="1" i="1" lang="ru-RU" sz="4400" spc="-1" strike="noStrike">
                <a:solidFill>
                  <a:srgbClr val="ff3300"/>
                </a:solidFill>
                <a:latin typeface="Georgia"/>
              </a:rPr>
              <a:t>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1" name="Picture 9" descr=""/>
          <p:cNvPicPr/>
          <p:nvPr/>
        </p:nvPicPr>
        <p:blipFill>
          <a:blip r:embed="rId1"/>
          <a:srcRect l="5860" t="0" r="0" b="0"/>
          <a:stretch/>
        </p:blipFill>
        <p:spPr>
          <a:xfrm>
            <a:off x="3886200" y="2057400"/>
            <a:ext cx="2449440" cy="198108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2017440"/>
            <a:ext cx="373392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Шоу – игра, которую удобно применять на уроках обобщения учебных тем, объединяющих семь глав, например при изучении курса «Природоведение 5 класс» (авторы Плешаков А. А., Сонин Н. И.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 проведении внеклассных занятий, классных час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3" name="Picture 13" descr=""/>
          <p:cNvPicPr/>
          <p:nvPr/>
        </p:nvPicPr>
        <p:blipFill>
          <a:blip r:embed="rId2"/>
          <a:srcRect l="13925" t="0" r="0" b="0"/>
          <a:stretch/>
        </p:blipFill>
        <p:spPr>
          <a:xfrm>
            <a:off x="4114800" y="4495680"/>
            <a:ext cx="2133720" cy="19814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"/>
          <p:cNvPicPr/>
          <p:nvPr/>
        </p:nvPicPr>
        <p:blipFill>
          <a:blip r:embed="rId3"/>
          <a:srcRect l="0" t="0" r="0" b="3844"/>
          <a:stretch/>
        </p:blipFill>
        <p:spPr>
          <a:xfrm>
            <a:off x="6705720" y="4572000"/>
            <a:ext cx="2286000" cy="19051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5" descr=""/>
          <p:cNvPicPr/>
          <p:nvPr/>
        </p:nvPicPr>
        <p:blipFill>
          <a:blip r:embed="rId4"/>
          <a:srcRect l="0" t="3848" r="0" b="0"/>
          <a:stretch/>
        </p:blipFill>
        <p:spPr>
          <a:xfrm>
            <a:off x="6629400" y="2057400"/>
            <a:ext cx="218448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3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 7 </a:t>
            </a:r>
            <a:br>
              <a:rPr sz="4400"/>
            </a:b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СЧАСТЛИВЫЙ СЛУЧАЙ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1981080"/>
            <a:ext cx="777240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Почему радиоактивные отходы считаются особенно опасными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AutoShape 4">
            <a:hlinkClick r:id="rId1" action="ppaction://hlinksldjump"/>
          </p:cNvPr>
          <p:cNvSpPr/>
          <p:nvPr/>
        </p:nvSpPr>
        <p:spPr>
          <a:xfrm>
            <a:off x="762120" y="51055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3794" y="12345"/>
                </a:moveTo>
                <a:lnTo>
                  <a:pt x="17806" y="5338"/>
                </a:lnTo>
                <a:lnTo>
                  <a:pt x="17806" y="19351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7" name="Picture 8" descr=""/>
          <p:cNvPicPr/>
          <p:nvPr/>
        </p:nvPicPr>
        <p:blipFill>
          <a:blip r:embed="rId2"/>
          <a:stretch/>
        </p:blipFill>
        <p:spPr>
          <a:xfrm>
            <a:off x="5486400" y="3505320"/>
            <a:ext cx="304812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e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214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8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2600" y="2133720"/>
            <a:ext cx="777240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Какое значение для древних людей имела способность изготавливать орудия труда и охоты, отличавшая их от животных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AutoShape 4">
            <a:hlinkClick r:id="rId1" action="ppaction://hlinksldjump"/>
          </p:cNvPr>
          <p:cNvSpPr/>
          <p:nvPr/>
        </p:nvSpPr>
        <p:spPr>
          <a:xfrm>
            <a:off x="457200" y="52578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Вопрос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4400"/>
            </a:b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СЧАСТЛИВЫЙ СЛУЧАЙ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82600" y="1904760"/>
            <a:ext cx="7772400" cy="42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Америка была открыта в 1492 году Джеймсом Куком, так ли это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AutoShape 5">
            <a:hlinkClick r:id="rId1" action="ppaction://hlinksldjump"/>
          </p:cNvPr>
          <p:cNvSpPr/>
          <p:nvPr/>
        </p:nvSpPr>
        <p:spPr>
          <a:xfrm>
            <a:off x="380880" y="51814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4" name="Picture 6" descr="j0335112"/>
          <p:cNvPicPr/>
          <p:nvPr/>
        </p:nvPicPr>
        <p:blipFill>
          <a:blip r:embed="rId2"/>
          <a:stretch/>
        </p:blipFill>
        <p:spPr>
          <a:xfrm>
            <a:off x="5257800" y="3200400"/>
            <a:ext cx="38862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 10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82600" y="1752120"/>
            <a:ext cx="7772400" cy="43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Как остановить или замедлить опустынивание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10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10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10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AutoShape 4">
            <a:hlinkClick r:id="rId1" action="ppaction://hlinksldjump"/>
          </p:cNvPr>
          <p:cNvSpPr/>
          <p:nvPr/>
        </p:nvSpPr>
        <p:spPr>
          <a:xfrm>
            <a:off x="22860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3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ree"/>
          <p:cNvSpPr/>
          <p:nvPr/>
        </p:nvSpPr>
        <p:spPr>
          <a:xfrm>
            <a:off x="1295280" y="0"/>
            <a:ext cx="6705720" cy="65530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1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На заре земледелия и скотоводства площадь лесов на Земле составляла 62 млн. км</a:t>
            </a:r>
            <a:r>
              <a:rPr b="0" lang="ru-RU" sz="4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. Сейчас лесами покрыто 36 млн. км</a:t>
            </a:r>
            <a:r>
              <a:rPr b="0" lang="ru-RU" sz="4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. На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какой площади уничтожены леса за это время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AutoShape 5">
            <a:hlinkClick r:id="rId1" action="ppaction://hlinksldjump"/>
          </p:cNvPr>
          <p:cNvSpPr/>
          <p:nvPr/>
        </p:nvSpPr>
        <p:spPr>
          <a:xfrm>
            <a:off x="457200" y="60199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1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842148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 расчетам ученых, пастбища Черных земель в середине 80-х годов прошлого века могли прокормить не более 750 тыс. овец. Но на деле здесь содержали более 1 млн 500 тыс. овец. Дайте приблизительную оценку: во сколько раз были перегружены пастбища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AutoShape 4">
            <a:hlinkClick r:id="rId1" action="ppaction://hlinksldjump"/>
          </p:cNvPr>
          <p:cNvSpPr/>
          <p:nvPr/>
        </p:nvSpPr>
        <p:spPr>
          <a:xfrm>
            <a:off x="304920" y="59436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3794" y="12152"/>
                </a:moveTo>
                <a:lnTo>
                  <a:pt x="17806" y="5145"/>
                </a:lnTo>
                <a:lnTo>
                  <a:pt x="17806" y="19158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Вопрос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1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3048120"/>
            <a:ext cx="7772400" cy="30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Как была открыта Австралия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AutoShape 4">
            <a:hlinkClick r:id="rId1" action="ppaction://hlinksldjump"/>
          </p:cNvPr>
          <p:cNvSpPr/>
          <p:nvPr/>
        </p:nvSpPr>
        <p:spPr>
          <a:xfrm>
            <a:off x="685800" y="48769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14 -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блиц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82600" y="1904760"/>
            <a:ext cx="7772400" cy="42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Что такое питомники, зачем они нужны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Галичья гора – это питомник или заповедник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?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Почему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Что такое биологическое разнообразие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AutoShape 4">
            <a:hlinkClick r:id="rId1" action="ppaction://hlinksldjump"/>
          </p:cNvPr>
          <p:cNvSpPr/>
          <p:nvPr/>
        </p:nvSpPr>
        <p:spPr>
          <a:xfrm>
            <a:off x="304920" y="533412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3794" y="12152"/>
                </a:moveTo>
                <a:lnTo>
                  <a:pt x="17806" y="5145"/>
                </a:lnTo>
                <a:lnTo>
                  <a:pt x="17806" y="19158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1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82600" y="2057400"/>
            <a:ext cx="777240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кология изучает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ещества и их превращения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роду земной поверхност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вязи между организмами и окружающей средой, между человеком и природо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бесные тел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AutoShape 5">
            <a:hlinkClick r:id="rId1" action="ppaction://hlinksldjump"/>
          </p:cNvPr>
          <p:cNvSpPr/>
          <p:nvPr/>
        </p:nvSpPr>
        <p:spPr>
          <a:xfrm>
            <a:off x="380880" y="5867280"/>
            <a:ext cx="609840" cy="6098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Вопрос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1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133720"/>
            <a:ext cx="777240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Фаддей Фаддеевич Беллинсгаузен и Михаил Петрович Лазарев в 1920 году открыли…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AutoShape 5">
            <a:hlinkClick r:id="rId1" action="ppaction://hlinksldjump"/>
          </p:cNvPr>
          <p:cNvSpPr/>
          <p:nvPr/>
        </p:nvSpPr>
        <p:spPr>
          <a:xfrm>
            <a:off x="457200" y="5181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040" y="-55152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600" y="304920"/>
            <a:ext cx="77724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ЦЕЛИ  и   ЗАДАЧИ (одни из возможных):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Систематизировать   знания  по   теме:  «…». Развивать умение быстро принимать правильное  решение,    сопереживать,   эмоционально    откликаться   на происходящее, использовать знания, работать в коллективе и индивидуально, решать познавательные задачи, повышать уровень экологической культуры. Продолжить формирование бережного отношения к природ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МЕТОДЫ ОБУЧЕНИЯ: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Репродуктивный, частично поисковый, игра «волшебный квадрат»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ПРИЕМЫ ДЕЯТЕЛЬНОСТИ УЧИТЕЛЯ: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Организация игры, разъяснение ее правил, подведение итогов по результатам игр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ЛИЧНОСТНАЯ         ЗНАЧИМОСТЬ ИЗУЧАЕМОГО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ДЛЯ ШКОЛЬНИК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    Показать    хорошие    знания    и    получить хорошую оценку своей учебной деятельност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1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AutoShape 4">
            <a:hlinkClick r:id="rId1" action="ppaction://hlinksldjump"/>
          </p:cNvPr>
          <p:cNvSpPr/>
          <p:nvPr/>
        </p:nvSpPr>
        <p:spPr>
          <a:xfrm>
            <a:off x="228600" y="57913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1066680" y="5845320"/>
            <a:ext cx="8077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43000" y="20570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чинами исчезновения живых организмов являются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ямое истребление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ничтожение мест обитания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грязнение окружающей среды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се перечисленно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1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8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1981080"/>
            <a:ext cx="777240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дберите пару: экологическая проблема – причин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ислотные дожд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величение в атмосфере углекислого газ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агрязнение атмосферы выбросами промышленных предприяти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величение использования аэрозолей и освежителей воздух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AutoShape 4">
            <a:hlinkClick r:id="rId1" action="ppaction://hlinksldjump"/>
          </p:cNvPr>
          <p:cNvSpPr/>
          <p:nvPr/>
        </p:nvSpPr>
        <p:spPr>
          <a:xfrm>
            <a:off x="380880" y="5867280"/>
            <a:ext cx="609840" cy="6098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1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9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82600" y="2057400"/>
            <a:ext cx="777240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Как называется книга в которую занесены названия редких и исчезающих видов живых организмов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Зелена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Черна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Красна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Природоохранна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AutoShape 4">
            <a:hlinkClick r:id="rId1" action="ppaction://hlinksldjump"/>
          </p:cNvPr>
          <p:cNvSpPr/>
          <p:nvPr/>
        </p:nvSpPr>
        <p:spPr>
          <a:xfrm>
            <a:off x="380880" y="601992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10800"/>
                </a:moveTo>
                <a:lnTo>
                  <a:pt x="17813" y="3794"/>
                </a:lnTo>
                <a:lnTo>
                  <a:pt x="17813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3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20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777240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Что такое ядохимикаты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Радиоактивные веществ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Вещества. Созданные для борьбы с вредителям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Удобрения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Лекарственные препарат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AutoShape 4">
            <a:hlinkClick r:id="rId1" action="ppaction://hlinksldjump"/>
          </p:cNvPr>
          <p:cNvSpPr/>
          <p:nvPr/>
        </p:nvSpPr>
        <p:spPr>
          <a:xfrm>
            <a:off x="609480" y="4724280"/>
            <a:ext cx="609840" cy="6098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21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-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1" name="AutoShape 4">
            <a:hlinkClick r:id="rId1" action="ppaction://hlinksldjump"/>
          </p:cNvPr>
          <p:cNvSpPr/>
          <p:nvPr/>
        </p:nvSpPr>
        <p:spPr>
          <a:xfrm>
            <a:off x="228600" y="60958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10806"/>
                </a:moveTo>
                <a:lnTo>
                  <a:pt x="17806" y="3800"/>
                </a:lnTo>
                <a:lnTo>
                  <a:pt x="17806" y="17813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2" name="Picture 5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8229600" cy="315936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6"/>
          <p:cNvSpPr/>
          <p:nvPr/>
        </p:nvSpPr>
        <p:spPr>
          <a:xfrm>
            <a:off x="914400" y="56386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зовите этих животных, что их объединяет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2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447560" y="2057400"/>
            <a:ext cx="7507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ahoma"/>
              </a:rPr>
              <a:t>Что такое Красная книга</a:t>
            </a: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AutoShape 4"/>
          <p:cNvSpPr/>
          <p:nvPr/>
        </p:nvSpPr>
        <p:spPr>
          <a:xfrm>
            <a:off x="228600" y="60199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7" name="Picture 5" descr="j0217698"/>
          <p:cNvPicPr/>
          <p:nvPr/>
        </p:nvPicPr>
        <p:blipFill>
          <a:blip r:embed="rId1"/>
          <a:stretch/>
        </p:blipFill>
        <p:spPr>
          <a:xfrm>
            <a:off x="4800600" y="3429000"/>
            <a:ext cx="3576600" cy="291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2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90360" y="151920"/>
            <a:ext cx="80010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ЕРЕХОД ХОД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нформация для размышле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АБЫ. Кожа бородавчатая. Они – верные друзья. Ночью выходят жабы на охоту. И сколько вредных насекомых уничтожат! Одна самка камышовой жабы откладывает до 4 тысяч икринок. Вот и представьте какую пользу приносит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ЕРЕГИТЕ ЖАБ 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AutoShape 4"/>
          <p:cNvSpPr/>
          <p:nvPr/>
        </p:nvSpPr>
        <p:spPr>
          <a:xfrm>
            <a:off x="0" y="6248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1" name="Picture 5" descr="06040202"/>
          <p:cNvPicPr/>
          <p:nvPr/>
        </p:nvPicPr>
        <p:blipFill>
          <a:blip r:embed="rId1"/>
          <a:stretch/>
        </p:blipFill>
        <p:spPr>
          <a:xfrm>
            <a:off x="3124080" y="2057400"/>
            <a:ext cx="350532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e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24 - блиц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82600" y="2361960"/>
            <a:ext cx="7772400" cy="37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се живущие сейчас на Земле люди относятся к одному виду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еловек умелы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еловек прямоходящ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еловек разумный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встралопите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AutoShape 4"/>
          <p:cNvSpPr/>
          <p:nvPr/>
        </p:nvSpPr>
        <p:spPr>
          <a:xfrm>
            <a:off x="380880" y="594360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10800"/>
                </a:moveTo>
                <a:lnTo>
                  <a:pt x="17813" y="3794"/>
                </a:lnTo>
                <a:lnTo>
                  <a:pt x="17813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25 - блиц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440" y="22856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то способствует опустынивани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спашка степе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резмерный выпас ове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онкий плодородный слой почв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се перечисленно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вымирании динозавров виноват человек. Так ли это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сушение болот оказывает положительное влияние на окружающую природу. Так ли это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228600" y="60199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26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ЧАСТЛИВЫЙ СЛУЧА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7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дберите пару: экологическая проблема – причин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зоновая дыра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величение в атмосфере углекислого газ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грязнение атмосферы выбросами промышленных предприят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величение использования аэрозолей и освежителей воздух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AutoShape 5"/>
          <p:cNvSpPr/>
          <p:nvPr/>
        </p:nvSpPr>
        <p:spPr>
          <a:xfrm>
            <a:off x="304920" y="6248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борудова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1828440"/>
            <a:ext cx="7772400" cy="43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вадрат с 36 секторами для проведения игр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ешочек с номерами (номера в футлярах из-под киндер-сюрпризов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едомость для подведения итог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Жетоны-балл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орудование, связанное с темой обобщения (урока, внеклассного мероприятия, классного часа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e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2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82600" y="2133720"/>
            <a:ext cx="777240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Первые домашние животные появились у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еловека умелог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еловека прямоходящег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андертальц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романьонц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304920" y="59436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Вопрос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28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819288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одберите пару: открытие — путешественник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рвым проложил морской путь в Инди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) В. Беринг       б) Д. Ливингстон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) Васко да Гам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AutoShape 4"/>
          <p:cNvSpPr/>
          <p:nvPr/>
        </p:nvSpPr>
        <p:spPr>
          <a:xfrm>
            <a:off x="228600" y="59436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3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29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90720" y="22856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ластиковая посуда и полиэтиленовые пакеты не разлагаются в природе, так как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х очень много производя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ни сделаны из очень прочного материа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 впитывают вод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т бактерий, разлагающих их в природ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AutoShape 4"/>
          <p:cNvSpPr/>
          <p:nvPr/>
        </p:nvSpPr>
        <p:spPr>
          <a:xfrm>
            <a:off x="152280" y="6095880"/>
            <a:ext cx="609840" cy="6098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30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1904760"/>
            <a:ext cx="7772400" cy="42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К каким последствиям приведет разрушение озонового слоя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высится температура на Земл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гибнет все живо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зрушатся памятники и зда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днимется уровень мор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AutoShape 4"/>
          <p:cNvSpPr/>
          <p:nvPr/>
        </p:nvSpPr>
        <p:spPr>
          <a:xfrm>
            <a:off x="228600" y="59436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3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3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4" name="AutoShape 4"/>
          <p:cNvSpPr/>
          <p:nvPr/>
        </p:nvSpPr>
        <p:spPr>
          <a:xfrm>
            <a:off x="228600" y="60199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тобы не исчезнуть с лица Земли подобно динозаврам люди должны(продолжите предложения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хранить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ороться с уничтожением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становить наступление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щитить планету от всех видов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Вопрос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32 - блиц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одберите пару: открытие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утешественник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 Первым достиг Северного полюс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 Первым достиг Южного полюс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3 Совершил первое кругосветное путешеств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) Р. Пири       б) Ф. Магеллан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) Р. Амундсе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AutoShape 4"/>
          <p:cNvSpPr/>
          <p:nvPr/>
        </p:nvSpPr>
        <p:spPr>
          <a:xfrm>
            <a:off x="228600" y="60199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33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- SO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82600" y="1981080"/>
            <a:ext cx="777240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Какое растение занесено в список редких и исчезающих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Эвкалип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Секвой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Берез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Кед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AutoShape 4"/>
          <p:cNvSpPr/>
          <p:nvPr/>
        </p:nvSpPr>
        <p:spPr>
          <a:xfrm>
            <a:off x="228600" y="60199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3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133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Установите соответстви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амятники природы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трогий режим охраны, вход человеку воспреще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ременно охраняемые территории для сохранения определенных вид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ебольшие территории или объекты природы, имеющие особую научную или культурную ценность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AutoShape 4"/>
          <p:cNvSpPr/>
          <p:nvPr/>
        </p:nvSpPr>
        <p:spPr>
          <a:xfrm>
            <a:off x="304920" y="60199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e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3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82600" y="2514600"/>
            <a:ext cx="7772400" cy="36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Длительный процесс исторического развития живых организмов в том числе и человека - это: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эволюция, палеонтология, экология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AutoShape 4"/>
          <p:cNvSpPr/>
          <p:nvPr/>
        </p:nvSpPr>
        <p:spPr>
          <a:xfrm>
            <a:off x="380880" y="601992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10800"/>
                </a:moveTo>
                <a:lnTo>
                  <a:pt x="17813" y="3794"/>
                </a:lnTo>
                <a:lnTo>
                  <a:pt x="17813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36 - блиц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182600" y="2133720"/>
            <a:ext cx="777240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ыберите правильное утверждение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«Гринпис» – это международная экологическая организац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Географические открытия никак не повлияли на природу материко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Что такое парниковый эффект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Какие ещё экологические проблемы вам известны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?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AutoShape 5"/>
          <p:cNvSpPr/>
          <p:nvPr/>
        </p:nvSpPr>
        <p:spPr>
          <a:xfrm>
            <a:off x="228600" y="60199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60912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          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равила игры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Участники игры по очереди вытягивают из мешочка номера и отвечают на вопросы. Получают жетон за каждый правильный ответ. Если участник не дал правильный ответ, то ответить и заработать жетон может каждый желающи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Среди секторов игрового квадрата есть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- * счастливый случай (за правильный ответ игрок получает сразу 3 жетона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-        Б. Т. бермудский треугольник (блиц из 3 вопросов, игрок получает 1 жетон за каждый правильный ответ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OS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грок может воспользоваться помощью болельщиков,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-черный сектор - переход хода (игрок лишается 1 жетона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о окончании игры, участники, имеющие жетоны заполняют ведомость для подведения итогов и получают оценку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AutoShape 4"/>
          <p:cNvSpPr/>
          <p:nvPr/>
        </p:nvSpPr>
        <p:spPr>
          <a:xfrm>
            <a:off x="1752480" y="3962520"/>
            <a:ext cx="457200" cy="304560"/>
          </a:xfrm>
          <a:prstGeom prst="triangle">
            <a:avLst>
              <a:gd name="adj" fmla="val 50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4" descr="Зернистость фильма_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4419360" cy="594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тоб могли леса цвести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 сады, и рек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се живое берег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ы на этом свете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ы природу полюби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ждую травинку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 птицами давай дружи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ереги былинку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усор, друг, не оставля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лесу на поляне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ки ты не засоря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ой объявим склянкам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е неси ежа домой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абочку не трогай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Школьник! Помни ты всегда-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х не так уж много!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82600" y="6248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Georgia"/>
              </a:rPr>
              <a:t>С</a:t>
            </a:r>
            <a:r>
              <a:rPr b="1" i="1" lang="ru-RU" sz="4000" spc="-1" strike="noStrike">
                <a:solidFill>
                  <a:srgbClr val="33ccff"/>
                </a:solidFill>
                <a:latin typeface="Georgia"/>
              </a:rPr>
              <a:t>П</a:t>
            </a:r>
            <a:r>
              <a:rPr b="1" i="1" lang="ru-RU" sz="4000" spc="-1" strike="noStrike">
                <a:solidFill>
                  <a:srgbClr val="008e69"/>
                </a:solidFill>
                <a:latin typeface="Georgia"/>
              </a:rPr>
              <a:t>А</a:t>
            </a:r>
            <a:r>
              <a:rPr b="1" i="1" lang="ru-RU" sz="4000" spc="-1" strike="noStrike">
                <a:solidFill>
                  <a:srgbClr val="333399"/>
                </a:solidFill>
                <a:latin typeface="Georgia"/>
              </a:rPr>
              <a:t>С</a:t>
            </a:r>
            <a:r>
              <a:rPr b="1" i="1" lang="ru-RU" sz="4000" spc="-1" strike="noStrike">
                <a:solidFill>
                  <a:srgbClr val="ff9900"/>
                </a:solidFill>
                <a:latin typeface="Georgia"/>
              </a:rPr>
              <a:t>И</a:t>
            </a:r>
            <a:r>
              <a:rPr b="1" i="1" lang="ru-RU" sz="4000" spc="-1" strike="noStrike">
                <a:solidFill>
                  <a:srgbClr val="ff3300"/>
                </a:solidFill>
                <a:latin typeface="Georgia"/>
              </a:rPr>
              <a:t>Б</a:t>
            </a:r>
            <a:r>
              <a:rPr b="1" i="1" lang="ru-RU" sz="4000" spc="-1" strike="noStrike">
                <a:solidFill>
                  <a:srgbClr val="33ccff"/>
                </a:solidFill>
                <a:latin typeface="Georgia"/>
              </a:rPr>
              <a:t>О</a:t>
            </a:r>
            <a:r>
              <a:rPr b="1" i="1" lang="ru-RU" sz="4000" spc="-1" strike="noStrike">
                <a:solidFill>
                  <a:srgbClr val="ff3300"/>
                </a:solidFill>
                <a:latin typeface="Georgia"/>
              </a:rPr>
              <a:t> З</a:t>
            </a:r>
            <a:r>
              <a:rPr b="1" i="1" lang="ru-RU" sz="4000" spc="-1" strike="noStrike">
                <a:solidFill>
                  <a:srgbClr val="008e69"/>
                </a:solidFill>
                <a:latin typeface="Georgia"/>
              </a:rPr>
              <a:t>А</a:t>
            </a:r>
            <a:r>
              <a:rPr b="1" i="1" lang="ru-RU" sz="40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ru-RU" sz="4000" spc="-1" strike="noStrike">
                <a:solidFill>
                  <a:srgbClr val="333399"/>
                </a:solidFill>
                <a:latin typeface="Georgia"/>
              </a:rPr>
              <a:t>У</a:t>
            </a:r>
            <a:r>
              <a:rPr b="1" i="1" lang="ru-RU" sz="4000" spc="-1" strike="noStrike">
                <a:solidFill>
                  <a:srgbClr val="ff9900"/>
                </a:solidFill>
                <a:latin typeface="Georgia"/>
              </a:rPr>
              <a:t>Р</a:t>
            </a:r>
            <a:r>
              <a:rPr b="1" i="1" lang="ru-RU" sz="4000" spc="-1" strike="noStrike">
                <a:solidFill>
                  <a:srgbClr val="ff3300"/>
                </a:solidFill>
                <a:latin typeface="Georgia"/>
              </a:rPr>
              <a:t>О</a:t>
            </a:r>
            <a:r>
              <a:rPr b="1" i="1" lang="ru-RU" sz="4000" spc="-1" strike="noStrike">
                <a:solidFill>
                  <a:srgbClr val="33ccff"/>
                </a:solidFill>
                <a:latin typeface="Georgia"/>
              </a:rPr>
              <a:t>К</a:t>
            </a:r>
            <a:r>
              <a:rPr b="1" i="1" lang="ru-RU" sz="4000" spc="-1" strike="noStrike">
                <a:solidFill>
                  <a:srgbClr val="ff3300"/>
                </a:solidFill>
                <a:latin typeface="Georgia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4" name="Beethoven's Symphony No. 9 (Scherzo).wma" descr=""/>
          <p:cNvPicPr/>
          <p:nvPr/>
        </p:nvPicPr>
        <p:blipFill>
          <a:blip r:embed="rId2"/>
          <a:stretch/>
        </p:blipFill>
        <p:spPr>
          <a:xfrm>
            <a:off x="457200" y="571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5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75742" fill="hold"/>
                                        <p:tgtEl>
                                          <p:spTgt spid="3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99308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вадрат с 36 секторами разных цветов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752480" y="914400"/>
          <a:ext cx="5943600" cy="5334120"/>
        </p:xfrm>
        <a:graphic>
          <a:graphicData uri="http://schemas.openxmlformats.org/drawingml/2006/table">
            <a:tbl>
              <a:tblPr/>
              <a:tblGrid>
                <a:gridCol w="990720"/>
                <a:gridCol w="990720"/>
                <a:gridCol w="990360"/>
                <a:gridCol w="990720"/>
                <a:gridCol w="990720"/>
                <a:gridCol w="990360"/>
              </a:tblGrid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e6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8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32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e6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32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</a:tr>
              <a:tr h="88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32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e69"/>
                    </a:solidFill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e6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32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88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f32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8e6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1676520" y="838080"/>
          <a:ext cx="6095880" cy="548640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15920"/>
                <a:gridCol w="1016280"/>
                <a:gridCol w="1015920"/>
                <a:gridCol w="1015920"/>
              </a:tblGrid>
              <a:tr h="95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S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S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3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переход х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S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6" name="AutoShape 59"/>
          <p:cNvSpPr/>
          <p:nvPr/>
        </p:nvSpPr>
        <p:spPr>
          <a:xfrm>
            <a:off x="2057400" y="1219320"/>
            <a:ext cx="533520" cy="380880"/>
          </a:xfrm>
          <a:prstGeom prst="triangle">
            <a:avLst>
              <a:gd name="adj" fmla="val 50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AutoShape 60"/>
          <p:cNvSpPr/>
          <p:nvPr/>
        </p:nvSpPr>
        <p:spPr>
          <a:xfrm>
            <a:off x="3124080" y="2971800"/>
            <a:ext cx="533520" cy="380880"/>
          </a:xfrm>
          <a:prstGeom prst="triangle">
            <a:avLst>
              <a:gd name="adj" fmla="val 50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AutoShape 61"/>
          <p:cNvSpPr/>
          <p:nvPr/>
        </p:nvSpPr>
        <p:spPr>
          <a:xfrm>
            <a:off x="7162920" y="3962520"/>
            <a:ext cx="533160" cy="380880"/>
          </a:xfrm>
          <a:prstGeom prst="triangle">
            <a:avLst>
              <a:gd name="adj" fmla="val 50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AutoShape 62"/>
          <p:cNvSpPr/>
          <p:nvPr/>
        </p:nvSpPr>
        <p:spPr>
          <a:xfrm>
            <a:off x="2133720" y="4876920"/>
            <a:ext cx="533160" cy="380880"/>
          </a:xfrm>
          <a:prstGeom prst="triangle">
            <a:avLst>
              <a:gd name="adj" fmla="val 50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AutoShape 63"/>
          <p:cNvSpPr/>
          <p:nvPr/>
        </p:nvSpPr>
        <p:spPr>
          <a:xfrm>
            <a:off x="3124080" y="5791320"/>
            <a:ext cx="533520" cy="380880"/>
          </a:xfrm>
          <a:prstGeom prst="triangle">
            <a:avLst>
              <a:gd name="adj" fmla="val 50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676160" y="214200"/>
            <a:ext cx="72673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Требования к количеству игроков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исло игроков кратно трем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птимальное число играющих – 9 или 18, для того, чтобы обеспечить повторную игру участников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ежду сериями игр можно включать музыкальные паузы, загадки, ребусы и т. д. (особенно при проведении внеклассных занятий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едомость учета баллов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533520" y="2666880"/>
          <a:ext cx="8229600" cy="2808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амилия, имя учащего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личество балл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ина</cp:lastModifiedBy>
  <dcterms:modified xsi:type="dcterms:W3CDTF">2009-03-15T04:50:01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